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E39B-9724-49C9-830E-B0540F5BA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8FE5-8D99-43FA-AD9E-7631585E9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06F9-52ED-4ADF-B3E3-D8783BE5A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BBD5-4CEC-4A7A-8E05-8A3846920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38D6-73E9-4646-BEC3-B46786531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1635-DB4B-4F19-A9A6-A33969FF0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240D-6D18-4BA7-B8BC-B2A428182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F63B-CE79-41AF-9DB4-6DCDA917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ECE7-7488-4CE2-8AE3-02BFC5B7D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A1B3-022D-425A-A870-5CD09B6F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45D9-74A9-4605-B250-60E8CB92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F664-5743-40F7-9107-144D8A5C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34AF3-A8D5-4424-BCE6-99B5C65861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r. Irw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Beethoven's Symphony No. 9 (Scherzo).wma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ormation goes he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16:36:16Z</dcterms:created>
  <dc:creator> </dc:creator>
  <dc:description/>
  <dc:language>en-US</dc:language>
  <cp:lastModifiedBy> </cp:lastModifiedBy>
  <dcterms:modified xsi:type="dcterms:W3CDTF">2009-04-07T17:01:14Z</dcterms:modified>
  <cp:revision>4</cp:revision>
  <dc:subject/>
  <dc:title>Presentation</dc:title>
</cp:coreProperties>
</file>